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6497-5D74-4284-8512-CF4C1FDD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9F3A-D2ED-4E05-B1C9-5721B95F57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FC9-CA92-427C-BA04-6CC004D8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14-5B49-4B99-81BB-3842E22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582-25B8-414A-B647-8C60B6DC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01A-5A1E-48F4-9A93-7CE66655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619-05B0-4D77-8B64-84EE136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F82-5720-4AE0-8371-2FB3CD5D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5E7-CF1A-4BFC-8353-546EC346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5BF-C55A-4546-9A62-6D93FB0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46A-736C-4178-8804-1458BDBE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65F-7028-427C-8B0A-9875722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948-503E-4AD4-A570-F57D13E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4B1-CE41-4B01-B041-C9EFBD1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F96F-C8E2-46A7-A891-954A0B7F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/22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61955" t="24167" r="14142" b="62504"/>
          <a:stretch/>
        </p:blipFill>
        <p:spPr>
          <a:xfrm>
            <a:off x="990720" y="533520"/>
            <a:ext cx="7162560" cy="318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39052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emical equations is a representation of a chemical reaction using number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 are what you have at the start of a reaction (on left side of eq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re what you have at the end of a reaction (on right side of eq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4142" t="25004" r="61955" b="56672"/>
          <a:stretch/>
        </p:blipFill>
        <p:spPr>
          <a:xfrm>
            <a:off x="1219320" y="76320"/>
            <a:ext cx="6629400" cy="405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41338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igns of a chemical reaction tell you that a reaction MAY have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change includes a change in temperature or light being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know for sure that a chemical reaction has taken place is if a new substance is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reactants for the equation below?</a:t>
            </a: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e + CuS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Cu + FeS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33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and Copper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and Iron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and 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60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per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ron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1219320"/>
            <a:ext cx="899136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Key Question 12   Exit Slip Ch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ir and Shar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27786"/>
          <a:stretch/>
        </p:blipFill>
        <p:spPr>
          <a:xfrm>
            <a:off x="1828800" y="48769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0" r="0" b="30555"/>
          <a:stretch/>
        </p:blipFill>
        <p:spPr>
          <a:xfrm>
            <a:off x="45720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09480"/>
            <a:ext cx="899136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1: What is the periodic table and how is it organiz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the 4 things in every box on the periodic table and what they tell you about the particles that make up an atom of that e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tomic number for boron is _____.  The atomic mass is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n has _____ protons, _____ neutrons, and _____ electr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how the periodic table is organ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ments are in order by ____________________ ___________________ on the periodic 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groups and periods and explain what elements in the same group and period have in comm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 columns are called ____________________ or ____________________ and contain elements with similar ____________________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rows are called ____________________ and contain elements with the same number of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____________________ in group 1 are the most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____________________ ____________________ in group 2 are also very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ransition metals in groups 3-12 are ____________________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in group 17 are very reactive non-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oble gases in group 18 are ____________________ and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558800"/>
            <a:ext cx="144792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622520"/>
            <a:ext cx="12952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6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0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20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0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909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6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0100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m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241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56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800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kali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1195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kaline Earth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546084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008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2400" y="6326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16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320" y="573120"/>
            <a:ext cx="899136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2: What is a chemical rea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what happens to molecules in a chemical ch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umber of atoms before and after a chemical change ________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ch of the following shows a correct equation for a chemical rea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in and define chemical equations, reactants, and produc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le the reactants and put a box around the products in the following chemical eq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, describe, and give examples of the 5 signs of a chemical ch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the table below showing the 5 signs of a chemical change and give an example for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80880" y="2247840"/>
            <a:ext cx="3670200" cy="457200"/>
            <a:chOff x="380880" y="2247840"/>
            <a:chExt cx="3670200" cy="457200"/>
          </a:xfrm>
        </p:grpSpPr>
        <p:sp>
          <p:nvSpPr>
            <p:cNvPr id="80" name=""/>
            <p:cNvSpPr/>
            <p:nvPr/>
          </p:nvSpPr>
          <p:spPr>
            <a:xfrm>
              <a:off x="38088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176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30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02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1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560" y="2476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47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5640" y="2438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46680" y="2097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91320" y="2019240"/>
            <a:ext cx="3047760" cy="764280"/>
            <a:chOff x="5791320" y="2019240"/>
            <a:chExt cx="3047760" cy="764280"/>
          </a:xfrm>
        </p:grpSpPr>
        <p:sp>
          <p:nvSpPr>
            <p:cNvPr id="90" name=""/>
            <p:cNvSpPr/>
            <p:nvPr/>
          </p:nvSpPr>
          <p:spPr>
            <a:xfrm>
              <a:off x="8003160" y="201924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791320" y="2222640"/>
              <a:ext cx="3047760" cy="380880"/>
              <a:chOff x="5791320" y="2222640"/>
              <a:chExt cx="304776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9132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4380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5960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3080" y="2413080"/>
                <a:ext cx="76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1048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4407120" y="20700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8280" y="3429000"/>
            <a:ext cx="660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               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83544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4952880"/>
          <a:ext cx="8381880" cy="181944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Indicating Chemic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562720" y="123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ain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203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(temperature &amp;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511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816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118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4263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id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57400"/>
            <a:ext cx="36576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429000"/>
            <a:ext cx="19814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42900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200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Hands or Glow St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508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sting, Heating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8132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tting Milk or Burning C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6114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423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Rusting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Key Question 12 Exit Slip: Pair and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Ed: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Quiz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Key Question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actants and products in a chemical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B2BE86EF-56C3-4261-A40D-30A982B98193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scribe what happens during a chemical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dentify the 5 signs of a chemical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xplain what a chemical equation tells you about a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31253" t="52084" r="62501" b="38544"/>
          <a:stretch/>
        </p:blipFill>
        <p:spPr>
          <a:xfrm>
            <a:off x="2919240" y="1600200"/>
            <a:ext cx="325296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53341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done to speed up or slow down a chemical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10155" t="12502" r="10155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38049" t="24167" r="38049" b="56672"/>
          <a:stretch/>
        </p:blipFill>
        <p:spPr>
          <a:xfrm>
            <a:off x="914400" y="304920"/>
            <a:ext cx="7391520" cy="472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51055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and type of atoms before a reaction is the same as the number and type of atoms after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s simply unhook, the atoms rearrange and recombine to form new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2:35:41Z</dcterms:created>
  <dc:creator>CCPS</dc:creator>
  <dc:description/>
  <dc:language>en-US</dc:language>
  <cp:lastModifiedBy>CCPS</cp:lastModifiedBy>
  <dcterms:modified xsi:type="dcterms:W3CDTF">2010-02-22T12:36:29Z</dcterms:modified>
  <cp:revision>2</cp:revision>
  <dc:subject/>
  <dc:title>Slide 1</dc:title>
</cp:coreProperties>
</file>